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0.jpeg" ContentType="image/jpeg"/>
  <Override PartName="/ppt/media/image26.gif" ContentType="image/gif"/>
  <Override PartName="/ppt/media/image18.jpeg" ContentType="image/jpeg"/>
  <Override PartName="/ppt/media/image22.gif" ContentType="image/gif"/>
  <Override PartName="/ppt/media/image15.jpeg" ContentType="image/jpeg"/>
  <Override PartName="/ppt/media/image29.gif" ContentType="image/gif"/>
  <Override PartName="/ppt/media/image13.jpeg" ContentType="image/jpeg"/>
  <Override PartName="/ppt/media/image19.jpeg" ContentType="image/jpeg"/>
  <Override PartName="/ppt/media/image32.gif" ContentType="image/gif"/>
  <Override PartName="/ppt/media/image11.png" ContentType="image/png"/>
  <Override PartName="/ppt/media/image9.jpeg" ContentType="image/jpeg"/>
  <Override PartName="/ppt/media/image12.gif" ContentType="image/gif"/>
  <Override PartName="/ppt/media/carbrake.wav" ContentType="audio/x-wav"/>
  <Override PartName="/ppt/media/image17.png" ContentType="image/png"/>
  <Override PartName="/ppt/media/type.wav" ContentType="audio/x-wav"/>
  <Override PartName="/ppt/media/image25.gif" ContentType="image/gif"/>
  <Override PartName="/ppt/media/image10.jpeg" ContentType="image/jpeg"/>
  <Override PartName="/ppt/media/image8.jpeg" ContentType="image/jpeg"/>
  <Override PartName="/ppt/media/whoosh.wav" ContentType="audio/x-wav"/>
  <Override PartName="/ppt/media/image27.gif" ContentType="image/gif"/>
  <Override PartName="/ppt/media/image7.png" ContentType="image/png"/>
  <Override PartName="/ppt/media/image1.png" ContentType="image/png"/>
  <Override PartName="/ppt/media/image28.gif" ContentType="image/gif"/>
  <Override PartName="/ppt/media/image5.gif" ContentType="image/gif"/>
  <Override PartName="/ppt/media/image14.jpeg" ContentType="image/jpeg"/>
  <Override PartName="/ppt/media/applause.wav" ContentType="audio/x-wav"/>
  <Override PartName="/ppt/media/image35.png" ContentType="image/png"/>
  <Override PartName="/ppt/media/image24.png" ContentType="image/png"/>
  <Override PartName="/ppt/media/image31.gif" ContentType="image/gif"/>
  <Override PartName="/ppt/media/explode.wav" ContentType="audio/x-wav"/>
  <Override PartName="/ppt/media/drumroll.wav" ContentType="audio/x-wav"/>
  <Override PartName="/ppt/media/image30.wmf" ContentType="image/x-wmf"/>
  <Override PartName="/ppt/media/image33.jpeg" ContentType="image/jpeg"/>
  <Override PartName="/ppt/media/image34.gif" ContentType="image/gif"/>
  <Override PartName="/ppt/media/image16.jpeg" ContentType="image/jpeg"/>
  <Override PartName="/ppt/media/projctor.wav" ContentType="audio/x-wav"/>
  <Override PartName="/ppt/media/camera.wav" ContentType="audio/x-wav"/>
  <Override PartName="/ppt/media/image6.gif" ContentType="image/gif"/>
  <Override PartName="/ppt/media/chimes.wav" ContentType="audio/x-wav"/>
  <Override PartName="/ppt/media/image21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23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B60E-8EF6-4999-98B5-C41DA380C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EDC4-13EA-4C0C-B287-46EE1C50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2D72-A857-42CB-8EB1-2DCE881FC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40AA-17AF-47C8-A732-23ADFB19B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7887-5967-4DD9-B2D9-C363809B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4217-87C4-4674-9062-76FD73DE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D3F0-60D6-427B-9C32-B84A95D8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39F6-C55B-4B74-BDB6-1072DFFD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535B-67AD-474F-B693-A266FF94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F1C9-F1FE-401F-B4FD-33159110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3E4E-BE09-4CEC-8504-7055374F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8618-7447-48BD-88A1-9B015FC6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4C6D-7E22-4006-959A-83FD0B204A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audio" Target="../media/chimes.wav"/><Relationship Id="rId8" Type="http://schemas.openxmlformats.org/officeDocument/2006/relationships/audio" Target="../media/drumroll.wav"/><Relationship Id="rId9" Type="http://schemas.openxmlformats.org/officeDocument/2006/relationships/audio" Target="../media/drumroll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png"/><Relationship Id="rId5" Type="http://schemas.openxmlformats.org/officeDocument/2006/relationships/image" Target="../media/image1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applause.wav"/><Relationship Id="rId1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image" Target="../media/image28.gif"/><Relationship Id="rId5" Type="http://schemas.openxmlformats.org/officeDocument/2006/relationships/image" Target="../media/image29.gif"/><Relationship Id="rId6" Type="http://schemas.openxmlformats.org/officeDocument/2006/relationships/audio" Target="../media/carbrake.wav"/><Relationship Id="rId7" Type="http://schemas.openxmlformats.org/officeDocument/2006/relationships/audio" Target="../media/whoosh.wav"/><Relationship Id="rId8" Type="http://schemas.openxmlformats.org/officeDocument/2006/relationships/audio" Target="../media/carbrake.wav"/><Relationship Id="rId9" Type="http://schemas.openxmlformats.org/officeDocument/2006/relationships/audio" Target="../media/explode.wav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image" Target="../media/image28.gif"/><Relationship Id="rId4" Type="http://schemas.openxmlformats.org/officeDocument/2006/relationships/image" Target="../media/image25.gif"/><Relationship Id="rId5" Type="http://schemas.openxmlformats.org/officeDocument/2006/relationships/image" Target="../media/image12.gif"/><Relationship Id="rId6" Type="http://schemas.openxmlformats.org/officeDocument/2006/relationships/image" Target="../media/image29.gif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gif"/><Relationship Id="rId3" Type="http://schemas.openxmlformats.org/officeDocument/2006/relationships/image" Target="../media/image33.jpeg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34.gi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image" Target="../media/image34.gif"/><Relationship Id="rId6" Type="http://schemas.openxmlformats.org/officeDocument/2006/relationships/image" Target="../media/image34.gif"/><Relationship Id="rId7" Type="http://schemas.openxmlformats.org/officeDocument/2006/relationships/image" Target="../media/image34.gif"/><Relationship Id="rId8" Type="http://schemas.openxmlformats.org/officeDocument/2006/relationships/image" Target="../media/image34.gif"/><Relationship Id="rId9" Type="http://schemas.openxmlformats.org/officeDocument/2006/relationships/image" Target="../media/image34.gif"/><Relationship Id="rId10" Type="http://schemas.openxmlformats.org/officeDocument/2006/relationships/image" Target="../media/image34.gif"/><Relationship Id="rId11" Type="http://schemas.openxmlformats.org/officeDocument/2006/relationships/audio" Target="file:///tmp/home/.config/libreoffice/4/user/gallery/type.wav" TargetMode="External"/><Relationship Id="rId12" Type="http://schemas.microsoft.com/office/2007/relationships/media" Target="file:///tmp/home/.config/libreoffice/4/user/gallery/type.wav" TargetMode="External"/><Relationship Id="rId13" Type="http://schemas.openxmlformats.org/officeDocument/2006/relationships/image" Target="../media/image35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438280" y="3352680"/>
            <a:ext cx="3657600" cy="18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说课教案</a:t>
            </a:r>
            <a:endParaRPr b="1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1371600"/>
            <a:ext cx="527688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JEFC   Book3    Unit4</a:t>
            </a:r>
            <a:endParaRPr b="0" i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838080"/>
            <a:ext cx="8915400" cy="35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（三）学习策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认真做好预习，自觉归纳宾语从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上课专心听讲，积极思考，勤于动脑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通过电话记录、采访、辩论、统计等多种形式，确立在用中、做中交流中学习英语的思想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90720"/>
            <a:ext cx="9144000" cy="39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四、教学总体设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（一） 创设情景，营造氛围，激发兴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如：上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3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课时，带两只电话机用于课堂表演，上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4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课时带几只麦克风用于采访，上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6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课时适当地移动课桌使教室像一个辩论现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914400"/>
            <a:ext cx="8153640" cy="23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  <a:ea typeface="隶书"/>
              </a:rPr>
              <a:t>（二）采用“任务型”教学方法，培养学生综合运用能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每堂课任务由：课前、课中、课后三部分组成，多样化的任务由课内延伸到课外，这样不仅扩展了知识面，更培养了学生的学习兴趣，努力提高学生综合运用语言的能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1447920"/>
            <a:ext cx="822960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  <a:ea typeface="隶书"/>
              </a:rPr>
              <a:t>（三）面向全体学生，关注学生的全面发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经常性的开展二人、四人小组活动，互帮互学，合作共处，共同进步，培养团队精神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219320" y="179712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sson 13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301608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sson 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42670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sson 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53341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sson 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19320" y="380880"/>
            <a:ext cx="510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Times New Roman"/>
                <a:ea typeface="隶书"/>
              </a:rPr>
              <a:t>分课教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5486400" cy="3828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143000" y="37339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ve you ever made telephone call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45403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y do you usually cal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54100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o do you usually cal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3049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son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238880" y="914400"/>
            <a:ext cx="695520" cy="1219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990720" y="91440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971800" y="99072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ff"/>
                </a:solidFill>
                <a:latin typeface="Times New Roman"/>
              </a:rPr>
              <a:t>      </a:t>
            </a:r>
            <a:r>
              <a:rPr b="1" i="1" lang="en-US" sz="5400" spc="-1" strike="noStrike">
                <a:solidFill>
                  <a:srgbClr val="ff00ff"/>
                </a:solidFill>
                <a:latin typeface="Times New Roman"/>
              </a:rPr>
              <a:t>V 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522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pressions of making telephone cal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19810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llo! May I speak to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09680" y="27432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ld on, please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09680" y="342900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/She isn’t here right now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41911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n I take a message for you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4876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’m calling to tell/ask you…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5638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o’s that? This is…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任务（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给情景，编一段打电话的对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129528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 lei telephoned Jim to borrow the book “Who Moved My Cheese”. But Jim isn’t in.Jim’s mother answered the telepho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733920" y="34290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752480" y="556272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在使用中巩固打电话用语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75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990720"/>
            <a:ext cx="7848360" cy="4952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13716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LEPHONE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2133720"/>
            <a:ext cx="6553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O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E:                           TIME: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SS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21636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r Gr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28494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e headma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90920" y="3581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Oct.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00800" y="3611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9:00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4343400"/>
            <a:ext cx="556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He’d like to meet you between 8:00 and 9:00 on Wednes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52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任务（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2)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听电话录音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获取信息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3520" y="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任务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(3):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两人小组获取信息</a:t>
            </a:r>
            <a:r>
              <a:rPr b="1" lang="zh-CN" sz="3600" spc="-1" strike="noStrike">
                <a:solidFill>
                  <a:srgbClr val="00cc00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00cc00"/>
                </a:solidFill>
                <a:latin typeface="隶书"/>
                <a:ea typeface="隶书"/>
              </a:rPr>
              <a:t>信息沟</a:t>
            </a:r>
            <a:r>
              <a:rPr b="1" lang="zh-CN" sz="3600" spc="-1" strike="noStrike">
                <a:solidFill>
                  <a:srgbClr val="00cc00"/>
                </a:solidFill>
                <a:latin typeface="隶书"/>
                <a:ea typeface="隶书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33520"/>
            <a:ext cx="914400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tudent 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持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NOT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tudent B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通过提问向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tudent 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获取信息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,Student 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这样回答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The notice says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that our class will go to the Red Star Farm tomorrow morn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The notice says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that we will help the farmers with their 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5486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彼此用英语交流信息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同时练习了宾语从句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3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75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136440"/>
            <a:ext cx="7162560" cy="65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Impact"/>
                <a:ea typeface="隶书"/>
              </a:rPr>
              <a:t>一、教材分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Impact"/>
                <a:ea typeface="隶书"/>
              </a:rPr>
              <a:t>二、教学原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Impact"/>
                <a:ea typeface="隶书"/>
              </a:rPr>
              <a:t>三、教学目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Impact"/>
                <a:ea typeface="隶书"/>
              </a:rPr>
              <a:t>四、教学总体设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Impact"/>
                <a:ea typeface="隶书"/>
              </a:rPr>
              <a:t>五、分步教学步骤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438280" y="0"/>
            <a:ext cx="4267440" cy="2590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219320" y="455616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o answers the telephone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531828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does Mr Green say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6004080"/>
            <a:ext cx="60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does the teacher say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3809880"/>
            <a:ext cx="64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s the headmaster i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9718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课文处理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657600" y="137160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headmaster isn’t there right n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320040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e will leave a message on the headmaster’s des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594360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4080" y="1371600"/>
            <a:ext cx="343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The teacher 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7960" y="3200400"/>
            <a:ext cx="343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The teacher 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8120" y="193356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t he wants to speak to the headmas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307656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t he wants to see him as soon as possi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444816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t he won’t be free until tomorr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566748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t he can come between 8:00 and 9:00 on Wednesd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00400" y="0"/>
            <a:ext cx="3581280" cy="20192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520" y="19051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Mr Green 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0" y="30481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Mr Green 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20" y="4419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Mr Green 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8840" y="563868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Mr Green 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914640" cy="5334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419720" y="11430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r Green 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19720" y="41911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headmaster 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任务</a:t>
            </a: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(4) :</a:t>
            </a: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深入话题</a:t>
            </a: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,</a:t>
            </a: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进行猜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80880" y="6094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Homework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444816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翻译某洗衣粉广告，由濮存晰与一小孩合作做的广告。“妈妈说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---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20001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561440" cy="64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1" dur="14400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413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6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371600" y="793800"/>
            <a:ext cx="5965920" cy="577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144792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should we do before we get on the trai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03848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can do in the trai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66880" y="763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任务</a:t>
            </a: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(1): </a:t>
            </a: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讨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76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son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152388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it a wonderful train rid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32004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id they do before getting on the trai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49068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id they do on the trai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380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Rea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91320" y="15238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skimmin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71600" y="2514600"/>
            <a:ext cx="1357200" cy="1600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766880" y="2514600"/>
            <a:ext cx="1357200" cy="16002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7024680" y="2514600"/>
            <a:ext cx="1357200" cy="16002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5653080" y="2514600"/>
            <a:ext cx="1357200" cy="1600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4357800" y="2514600"/>
            <a:ext cx="1357200" cy="16002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3062160" y="2514600"/>
            <a:ext cx="1357560" cy="16002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04920" y="76212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任务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(2): Interview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4876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学生借助自己的生活阅历和已有的语篇结构，对信息做各种合理的处理与加工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500"/>
                            </p:stCondLst>
                            <p:childTnLst>
                              <p:par>
                                <p:cTn id="4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3000"/>
                            </p:stCondLst>
                            <p:childTnLst>
                              <p:par>
                                <p:cTn id="5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14400" y="7621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Homework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2286000"/>
            <a:ext cx="85341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Which do you like best, travelling by train,by air or by bus? Why? Write the reas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Collect some information of Mount Em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05120" y="2057400"/>
            <a:ext cx="7238880" cy="33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本单元围绕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Jim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及其家人去峨眉山旅游这一话题，先由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Jim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父亲打电话约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the headmaster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由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the headmaster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不在，引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telephone messag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sson1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；然后坐火车旅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lesson14)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；回校与同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in Tao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交流信息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lesson15)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；对交通工具的优劣比较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sson1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1508040"/>
            <a:ext cx="1981080" cy="5349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37240" y="1828800"/>
            <a:ext cx="282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隶书"/>
                <a:ea typeface="隶书"/>
              </a:rPr>
              <a:t>（一） 教学内容分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352680" y="3048120"/>
            <a:ext cx="2687760" cy="1828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172200" y="3048120"/>
            <a:ext cx="2819520" cy="1828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6172200" y="5029200"/>
            <a:ext cx="2743200" cy="17524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3352680" y="5045040"/>
            <a:ext cx="2743200" cy="1736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3352680" y="785880"/>
            <a:ext cx="5562720" cy="21096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581280" y="7632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son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95080" y="990720"/>
            <a:ext cx="729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trip to Mount Em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3000"/>
                            </p:stCondLst>
                            <p:childTnLst>
                              <p:par>
                                <p:cTn id="5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000"/>
                            </p:stCondLst>
                            <p:childTnLst>
                              <p:par>
                                <p:cTn id="5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4500"/>
                            </p:stCondLst>
                            <p:childTnLst>
                              <p:par>
                                <p:cTn id="5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52280" y="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任务</a:t>
            </a: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(1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700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中心任务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介绍峨眉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415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课前任务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通过因特网等途径收集有关峨眉山的资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56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17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8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230560"/>
            <a:ext cx="914400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课中任务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享资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自告奋勇用英语向全班介绍峨眉山的一些情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教师引导其他同学用宾语从句重复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她的介绍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udent A: There are a lot of monkeys in the mou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eacher: He/She said that there were a lot of monkeys in the mou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udent B: The clouds in the mountain are very beautifu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eacher: He/She said that the clouds in the mountain were very beautifu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6019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课后任务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每位学生把所收集到的资料编成墙报，展出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3504960" cy="2944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181480" y="914400"/>
            <a:ext cx="3429000" cy="29574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5181480" y="3984480"/>
            <a:ext cx="3353040" cy="2873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533520" y="4094280"/>
            <a:ext cx="3504960" cy="2763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57200" y="2286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football match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3000"/>
                            </p:stCondLst>
                            <p:childTnLst>
                              <p:par>
                                <p:cTn id="6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04920" y="2286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任务（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Memory challenge t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9144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(Have a competition between boys and gir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185904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d Lin Tao’s teacher tell them about Ji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24685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d Lin Tao say when he met Ji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307800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d Jim say about Mount Eme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368784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d Lin Tao say about the score of the mat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429732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d Lin Tao say about his own football tea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498312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d Jim say about his trip to Mount Eme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566892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d Jim say about the phot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24480" y="62485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Winner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8474040" y="6130800"/>
            <a:ext cx="365040" cy="6508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061480" y="6164280"/>
            <a:ext cx="32040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09480" y="838080"/>
            <a:ext cx="8001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ppose you are Jim or Lin Tao ,write a diary about the trip or the football mat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029200" y="3200400"/>
            <a:ext cx="2666880" cy="2241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85800" y="3200400"/>
            <a:ext cx="28954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440" y="7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06360" y="66600"/>
            <a:ext cx="8532720" cy="6638760"/>
            <a:chOff x="306360" y="66600"/>
            <a:chExt cx="8532720" cy="6638760"/>
          </a:xfrm>
        </p:grpSpPr>
        <p:grpSp>
          <p:nvGrpSpPr>
            <p:cNvPr id="181" name=""/>
            <p:cNvGrpSpPr/>
            <p:nvPr/>
          </p:nvGrpSpPr>
          <p:grpSpPr>
            <a:xfrm>
              <a:off x="311040" y="71280"/>
              <a:ext cx="8523360" cy="6629400"/>
              <a:chOff x="311040" y="71280"/>
              <a:chExt cx="8523360" cy="6629400"/>
            </a:xfrm>
          </p:grpSpPr>
          <p:sp>
            <p:nvSpPr>
              <p:cNvPr id="182" name=""/>
              <p:cNvSpPr/>
              <p:nvPr/>
            </p:nvSpPr>
            <p:spPr>
              <a:xfrm>
                <a:off x="311040" y="71280"/>
                <a:ext cx="8523360" cy="662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zh-CN" sz="420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11040" y="71280"/>
                <a:ext cx="8523360" cy="662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306360" y="66600"/>
              <a:ext cx="8532720" cy="66387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684440" y="228600"/>
            <a:ext cx="5783040" cy="64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304920" y="838080"/>
          <a:ext cx="8686800" cy="5743800"/>
        </p:xfrm>
        <a:graphic>
          <a:graphicData uri="http://schemas.openxmlformats.org/drawingml/2006/table">
            <a:tbl>
              <a:tblPr/>
              <a:tblGrid>
                <a:gridCol w="3879720"/>
                <a:gridCol w="849240"/>
                <a:gridCol w="901800"/>
                <a:gridCol w="703080"/>
                <a:gridCol w="755640"/>
                <a:gridCol w="849600"/>
                <a:gridCol w="7477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an’anmen, Wangfuj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 home, sch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 home, the railway s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ijing, Shangh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du, Nan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angzhou, Hong Ko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anjin, Dali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ingdao, San Francisco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 city, Toky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80880" y="4038480"/>
            <a:ext cx="2297160" cy="8794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914400" y="762120"/>
            <a:ext cx="1644480" cy="17143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5867280" y="4572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3505320" y="990720"/>
            <a:ext cx="1676160" cy="1295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6400800" y="3962520"/>
            <a:ext cx="1589040" cy="1234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838080" y="27432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 bi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2819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 b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28954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 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59436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 pl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248520" y="58672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 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00"/>
                            </p:stCondLst>
                            <p:childTnLst>
                              <p:par>
                                <p:cTn id="7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295280" y="99072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fastes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way to trave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2286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Discus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14479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slow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57600" y="18730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most expens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57600" y="2438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least expens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28954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saf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57600" y="33526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most dangero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657600" y="38098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most comfort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57600" y="43434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least comfort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53341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said the____ way to  travel was ___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1023840" cy="10666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3276720" y="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4952880" y="304920"/>
            <a:ext cx="1063800" cy="8222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6095880" y="304920"/>
            <a:ext cx="2297160" cy="8794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2895480" y="6618240"/>
            <a:ext cx="5965920" cy="2397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1371600" y="5969160"/>
            <a:ext cx="114300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0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457200" y="6094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隶书"/>
              </a:rPr>
              <a:t>任务（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隶书"/>
              </a:rPr>
              <a:t>2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隶书"/>
              </a:rPr>
              <a:t>）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隶书"/>
              </a:rPr>
              <a:t>:  surv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0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457200"/>
            <a:ext cx="9144000" cy="47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  <a:ea typeface="隶书"/>
              </a:rPr>
              <a:t>（</a:t>
            </a: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二）教学重点、难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ff00ff"/>
                </a:solidFill>
                <a:latin typeface="隶书"/>
                <a:ea typeface="隶书"/>
              </a:rPr>
              <a:t>、教学重点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） 宾语从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） 有用的词语：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as soon as possible                that would be fine    keep doing    Hurry up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！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fall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fas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asleep    wake 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28600" y="3049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任务（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）：制定旅行方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1523880"/>
            <a:ext cx="8686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①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在地图上指出学校所在地的位置与峨眉山的位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②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小组讨论去峨眉山的方案，从学校到车站的交通方式，从学校所在城市到成都的交通方式（可否直达），从成都到峨眉山等等，并说明理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③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评价：以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cheap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fast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safe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comfortable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有机结合为标准，评出最佳方案若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0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任务（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4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）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Argument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：</a:t>
            </a:r>
            <a:br>
              <a:rPr sz="4400"/>
            </a:br>
            <a:r>
              <a:rPr b="0" i="1" lang="zh-CN" sz="4400" spc="-1" strike="noStrike">
                <a:solidFill>
                  <a:srgbClr val="ff00ff"/>
                </a:solidFill>
                <a:latin typeface="Times New Roman"/>
              </a:rPr>
              <a:t>Is travelling good or bad?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98108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①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把全班同学分成两半，确定正方与反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②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分别讨论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GOOD POINTS &amp; BAD POINTS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③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展开辩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0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200400" y="6094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vell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90720" y="1397160"/>
          <a:ext cx="7543800" cy="4622760"/>
        </p:xfrm>
        <a:graphic>
          <a:graphicData uri="http://schemas.openxmlformats.org/drawingml/2006/table">
            <a:tbl>
              <a:tblPr/>
              <a:tblGrid>
                <a:gridCol w="3809880"/>
                <a:gridCol w="373392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OD POI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D POI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e different and interesting pla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nd too much mon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"/>
          <p:cNvSpPr/>
          <p:nvPr/>
        </p:nvSpPr>
        <p:spPr>
          <a:xfrm>
            <a:off x="1143000" y="28195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81480" y="28195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-76320" y="30492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Task: argument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辩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7010280" y="609480"/>
            <a:ext cx="1417680" cy="14256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1096920" cy="13716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3886200" y="457200"/>
            <a:ext cx="1452600" cy="21430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80880" y="27432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G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62920" y="27115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imes New Roman"/>
              </a:rPr>
              <a:t>B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9880" y="27432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chairm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38545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I think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733920" y="388620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He/she said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086600" y="3886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I think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029200" y="6095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The winner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500"/>
                            </p:stCondLst>
                            <p:childTnLst>
                              <p:par>
                                <p:cTn id="8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500"/>
                            </p:stCondLst>
                            <p:childTnLst>
                              <p:par>
                                <p:cTn id="8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7200" y="3808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Homework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213372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rite a short passage about travelling, “It’s </a:t>
            </a: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good/ba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for us to travel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0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04920" y="343080"/>
            <a:ext cx="86104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隶书"/>
              </a:rPr>
              <a:t>六、评价手段和操作方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形成性评价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一）非测试性评价：教学评价既要关注结果，又要关注过程，应是两者有机结合。为此本单元通过对学生的书面作业、对话表演、回答问题、讨论利弊、小组活动等，对学生的学习能力、学习态度、合作精神、创新意识等作出过程性评价。这种评价有助于教师发现每位同学的闪光点，也可以让多数学生体验成功的喜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838080"/>
            <a:ext cx="937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表一：对话表演评比（优秀、良好、一般、需努力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981080"/>
          <a:ext cx="8534520" cy="3022560"/>
        </p:xfrm>
        <a:graphic>
          <a:graphicData uri="http://schemas.openxmlformats.org/drawingml/2006/table">
            <a:tbl>
              <a:tblPr/>
              <a:tblGrid>
                <a:gridCol w="1676520"/>
                <a:gridCol w="1676520"/>
                <a:gridCol w="1676160"/>
                <a:gridCol w="1752840"/>
                <a:gridCol w="1752480"/>
              </a:tblGrid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日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课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内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语音语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语言表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动作表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整体效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自我评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小组评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教师评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2280" y="68580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表二：小组活动记录表（积极、尚积极、一般、不参与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523880" y="2235240"/>
          <a:ext cx="7010640" cy="2489040"/>
        </p:xfrm>
        <a:graphic>
          <a:graphicData uri="http://schemas.openxmlformats.org/drawingml/2006/table">
            <a:tbl>
              <a:tblPr/>
              <a:tblGrid>
                <a:gridCol w="1067040"/>
                <a:gridCol w="1066680"/>
                <a:gridCol w="1143000"/>
                <a:gridCol w="3733920"/>
              </a:tblGrid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日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内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评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等第               评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等第               评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191120" y="5105520"/>
            <a:ext cx="909360" cy="17524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76212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1523880" y="2514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4"/>
          <a:stretch/>
        </p:blipFill>
        <p:spPr>
          <a:xfrm>
            <a:off x="579132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5"/>
          <a:stretch/>
        </p:blipFill>
        <p:spPr>
          <a:xfrm>
            <a:off x="1066680" y="4191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6"/>
          <a:stretch/>
        </p:blipFill>
        <p:spPr>
          <a:xfrm>
            <a:off x="6705720" y="457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7"/>
          <a:stretch/>
        </p:blipFill>
        <p:spPr>
          <a:xfrm>
            <a:off x="5791320" y="18288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8"/>
          <a:stretch/>
        </p:blipFill>
        <p:spPr>
          <a:xfrm>
            <a:off x="4191120" y="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9"/>
          <a:stretch/>
        </p:blipFill>
        <p:spPr>
          <a:xfrm>
            <a:off x="2743200" y="18288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10"/>
          <a:stretch/>
        </p:blipFill>
        <p:spPr>
          <a:xfrm>
            <a:off x="3581280" y="43434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>
            <a:hlinkClick r:id="" action="ppaction://media"/>
          </p:cNvPr>
          <p:cNvPicPr/>
          <p:nvPr>
            <a:audioFile r:link="rId11"/>
            <p:extLst>
              <p:ext uri="{DAA4B4D4-6D71-4841-9C94-3DE7FCFB9230}">
                <p14:media r:link="rId12"/>
              </p:ext>
            </p:extLst>
          </p:nvPr>
        </p:nvPicPr>
        <p:blipFill>
          <a:blip r:embed="rId13"/>
          <a:stretch>
            <a:fillRect/>
          </a:stretch>
        </p:blipFill>
        <p:spPr>
          <a:xfrm>
            <a:off x="86104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828800" y="6095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金华四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486400" y="60958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俞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133720" y="2590920"/>
            <a:ext cx="50292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ank you</a:t>
            </a: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！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4" dur="1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52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828800"/>
            <a:ext cx="838188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2</a:t>
            </a: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、教学难点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） 创设使用宾语从句的情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） 任务的真实性与教育性的统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2209680"/>
            <a:ext cx="845820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（三） 任务特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信息的分析与整合、分享感受和经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143000"/>
            <a:ext cx="9144000" cy="35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二、教学原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运用“任务型”教学途径，培养学生综合运用语言的能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突出交际性，注重启发性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在用中学，创建信息沟，实现信息传递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838080"/>
            <a:ext cx="8458200" cy="35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（一）知识技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学习、掌握宾语从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学习、掌握一些重点词汇、短语和句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提高学生听、说、读、写及综合运用能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38080" y="1523880"/>
            <a:ext cx="716292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（二）情感态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对事物做到一分为二的分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开展小组活，积极与人合作，互帮互学，学会共处，具有团队精神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0T12:29:47Z</dcterms:created>
  <dc:creator>jk</dc:creator>
  <dc:description/>
  <dc:language>en-US</dc:language>
  <cp:lastModifiedBy>金泳奇</cp:lastModifiedBy>
  <dcterms:modified xsi:type="dcterms:W3CDTF">2004-09-15T09:26:11Z</dcterms:modified>
  <cp:revision>23</cp:revision>
  <dc:subject/>
  <dc:title>PowerPoint 演示文稿</dc:title>
</cp:coreProperties>
</file>